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19E7-E71A-48D2-A676-7BD9D8B630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90AD-2379-48B0-97BB-391429A7ABE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gain, discussions can be monitored and corrections for errors elicited post 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D9B2-CD85-4DA2-BEE7-32B2E1176EF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714A-D54C-4ED3-9FD3-F7215D61100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D7EC-5E26-44F7-AE4F-59CD36DFB0B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7CD2-DCF2-4B71-B14A-FB75CA03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063-D180-4F1C-B120-2353D929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1F0-7B9B-4CD6-9EF0-0C0F6C9F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EE40-E85E-4461-B285-ECF7D429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AA0-08ED-4809-9A17-0FB68597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425-62AD-48C4-99F0-F5D5EFC9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0DE-97CA-46D8-81B6-739AB7F3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E1E-4C59-4D6A-B487-136EB5FB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84D-F3A4-4AFF-A059-418E5DEB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E00-86C6-455C-A083-AEB67BBC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1E7-BD89-467D-A47E-93517E65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1DF-0A79-4A76-9BD9-6DDA02BE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889A-9A89-41C3-B480-E43083669BE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Country_profile:_Mauritius" TargetMode="External"/><Relationship Id="rId2" Type="http://schemas.openxmlformats.org/officeDocument/2006/relationships/hyperlink" Target="http://eewiki.newint.org/index.php/Country_profile_-_Indonesia" TargetMode="External"/><Relationship Id="rId3" Type="http://schemas.openxmlformats.org/officeDocument/2006/relationships/hyperlink" Target="http://eewiki.newint.org/index.php/Country_profile_-_Indonesia" TargetMode="External"/><Relationship Id="rId4" Type="http://schemas.openxmlformats.org/officeDocument/2006/relationships/hyperlink" Target="http://eewiki.newint.org/index.php/Country_profile_-_Malawi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Country_profile:_Mauritius" TargetMode="External"/><Relationship Id="rId2" Type="http://schemas.openxmlformats.org/officeDocument/2006/relationships/hyperlink" Target="http://eewiki.newint.org/index.php/Country_profile_-_Indonesia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78136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alibri"/>
              </a:rPr>
              <a:t>QUIZ: Indonesia, Malawi or Mauritiu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71640" y="5516640"/>
            <a:ext cx="74088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6011640" cy="151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3132000" y="189000"/>
            <a:ext cx="6012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Which countries were these photos taken i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95280" y="1263600"/>
            <a:ext cx="3121200" cy="3119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3203640" y="2557440"/>
            <a:ext cx="2508120" cy="374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4"/>
          <a:stretch/>
        </p:blipFill>
        <p:spPr>
          <a:xfrm>
            <a:off x="17640" y="44323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443640" y="4307040"/>
            <a:ext cx="24112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What do you know about these countries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law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762200" y="1557360"/>
            <a:ext cx="1936800" cy="1936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875640" y="1089000"/>
            <a:ext cx="208908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4067280" y="3994200"/>
            <a:ext cx="1865160" cy="27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1031760" y="461016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5"/>
          <a:stretch/>
        </p:blipFill>
        <p:spPr>
          <a:xfrm>
            <a:off x="6500880" y="3284640"/>
            <a:ext cx="2463840" cy="246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6"/>
          <a:stretch/>
        </p:blipFill>
        <p:spPr>
          <a:xfrm>
            <a:off x="412920" y="1754280"/>
            <a:ext cx="1149120" cy="771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7"/>
          <a:stretch/>
        </p:blipFill>
        <p:spPr>
          <a:xfrm>
            <a:off x="2725560" y="3713040"/>
            <a:ext cx="1202040" cy="803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8"/>
          <a:stretch/>
        </p:blipFill>
        <p:spPr>
          <a:xfrm>
            <a:off x="5280120" y="2139840"/>
            <a:ext cx="1306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hich (of Malawi, Indonesia or Mauritius) are the following statements about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41300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pulation: 239.9 million / life expectancy: 6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pulation: 14.9 million / life expectancy: 5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pulation: 1.3 million / life expectancy: 7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’s the biggest investor in I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lmost half the population live on under 2 dollars a d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dodo became extinct here in 178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 became independent from the British in 196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 had the first female President in southern Africa (Joyce Band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quickly scan the 3 articles to find 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7640" y="1700280"/>
            <a:ext cx="878508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auritiu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Country_profile:_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eewiki.newint.org/index.php/Country_profile_-_Indones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Calibri"/>
              </a:rPr>
              <a:t>Malawi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ewiki.newint.org/index.php/Country_profile_-_Malaw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5"/>
          <a:stretch/>
        </p:blipFill>
        <p:spPr>
          <a:xfrm>
            <a:off x="2774880" y="4292640"/>
            <a:ext cx="1146240" cy="768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6"/>
          <a:stretch/>
        </p:blipFill>
        <p:spPr>
          <a:xfrm>
            <a:off x="3059280" y="2973240"/>
            <a:ext cx="1304640" cy="871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7"/>
          <a:stretch/>
        </p:blipFill>
        <p:spPr>
          <a:xfrm>
            <a:off x="3059280" y="1628640"/>
            <a:ext cx="120168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5843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: 239.9 million / life expectancy: 6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: 14.9 million / life expectancy: 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: 1.3 million / life expectancy: 7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’s the biggest investor in I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most half the population live on under 2 dollars a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odo became extinct here in 17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became independent from the British in 19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had the first female President in southern Africa (Joyce Band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659280" y="1599840"/>
            <a:ext cx="2027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law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law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5651640" y="165240"/>
            <a:ext cx="13237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read, compare and learn new language from all 3 artic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sier English artic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uritius: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Country_profile:_Mauriti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ewiki.newint.org/index.php/Country_profile_-_Indones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lawi: http://eewiki.newint.org/index.php/Country_profile_-_Malaw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riginal artic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uritiu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newint.org/columns/country/2013/04/01/country-profile-mauritius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newint.org/columns/country/2013/05/01/country-profile-indonesia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law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newint.org/columns/country/2013/06/01/malawi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276720" y="4941720"/>
            <a:ext cx="10713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4:37:08Z</dcterms:created>
  <dc:creator>Linda Ruas</dc:creator>
  <dc:description/>
  <dc:language>en-US</dc:language>
  <cp:lastModifiedBy>Linda Ruas</cp:lastModifiedBy>
  <dcterms:modified xsi:type="dcterms:W3CDTF">2014-05-26T14:19:17Z</dcterms:modified>
  <cp:revision>28</cp:revision>
  <dc:subject/>
  <dc:title>Countries</dc:title>
</cp:coreProperties>
</file>